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517-231E-430F-848F-4C3462C1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41A-38EB-453B-839D-666F32A4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3B7-AB1E-461C-8921-A5372993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8E6-4639-4024-A8A2-F99823D0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6099-3E68-4517-BE42-D69CF06C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FC0D-CD6D-47D4-8B47-39F64AC8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FFBE-C973-49CE-805C-4EC6DC35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8775-368B-4BFD-8A8D-C565CA35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B1C9-5341-4CDD-8ADE-3799F83B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6BCB-3330-4128-8EBC-0E5074A8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A269-33CE-4E16-9F5F-54EA0A79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8B6-F9E0-458B-BB17-9E39C889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C6C5-8AFE-4505-BC92-18D195D7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4BE6-19C4-4062-99E2-CF28FA21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92A0-A999-40F2-9048-EBBFA955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E5C3-FEEA-4BD2-B5CC-B22D869A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FCB1-E69E-4DF8-B573-39312CB8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2A3A-5E6D-4916-AE9F-534747B4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D4F99-C617-4D6D-BD50-3B516534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74B8-7B5C-46A6-ACA0-0511DD01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5666C-2237-4165-9AF7-35B3F7DD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76595-E997-4F37-874F-1DBBFA7E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D74-A3CA-4B7A-8486-B237A15F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409F5-DDF3-4604-947B-F69783FC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A94B-EBFA-4DA8-A5E5-5A067710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A8F77-2715-4FD6-B07D-1E6AE238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5FE07-8F39-4937-80A9-59A1C7E9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1AE3-BFC7-423B-9AC2-25A1D350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8574C-07DF-4625-A54C-9B49BE98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04AD-2855-4265-8961-4DF761B4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B1AE-32EE-4154-A3B7-B34B1F67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84F8-1659-4241-84D4-4B8100BD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7FB6-6C37-46DF-B8B6-01587FA8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F41-8C28-4981-82A7-38E34042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153F4-1E47-403C-B60D-16D1F546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D6A5-ACC0-4205-A75B-BFB8199C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F2A3B-9537-4AEC-80A7-91D0B117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0C91-2392-4BC4-8D8F-1A0A7AE8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4F2F5-1E5B-4313-8632-5C398A93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6075F-64C1-4C57-BC17-B491B4CF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EC01-D018-47A0-BD10-A74715F6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459E-7931-4B71-AE00-DAB46D51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A66AC-F56E-495D-85D8-F007A48B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2600-4FDD-444A-BFB6-A4A4A148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CBA-D083-45C5-B405-6A705C3E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1061-CEE0-4DA5-80C8-FD761C4E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D3C18-5D3E-413B-8411-9811B04A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E0E98-E202-446B-8EFC-A06538BF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D299-19D2-47CE-84CA-1DE60E7D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4BABB-368E-46DF-8638-CD9A5416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DE34F-CA26-4C6C-8DAB-6ACADB3E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8A71C-071A-410C-A36E-20C82A1F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36CB4-4BE8-494C-A51E-88980D15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3366A-D24C-427C-A82F-E5C68654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4202E-BE98-4889-8F97-E727B4AB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73B-70FE-4E7E-99CA-DD0B83C8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1943C-0170-4064-B8A4-09D4B43C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CF0-1FA4-4A42-9558-1C5EEBB7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579-B954-4701-9765-D50184A3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EA2-41E6-43FE-822B-9E9A8CB0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B213-275C-4356-B9C1-76228F244B40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04C3-B6EE-43B2-A82A-056351CB8502}" type="slidenum">
              <a:rPr b="0" lang="sr-Latn-C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1BE6-93C5-4A8F-9722-FADDDE65B7F9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BD20-53BE-443F-B418-9ECADD67BBE5}" type="slidenum">
              <a:rPr b="0" lang="sr-Latn-C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964B-877C-4A11-8963-C8DB45854C1D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Berzansko poslovanj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44440" y="133200"/>
            <a:ext cx="7461360" cy="658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-360" y="1000080"/>
            <a:ext cx="835812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Finansijsko izvještavanj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štampani medij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nn-NO" sz="2000" spc="-1" strike="noStrike">
                <a:solidFill>
                  <a:srgbClr val="000000"/>
                </a:solidFill>
                <a:latin typeface="Trebuchet MS"/>
              </a:rPr>
              <a:t>- elektronski mediji (televizija, radio, interne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Znacaj izvjestavanj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rebuchet MS"/>
              </a:rPr>
              <a:t>Informacij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Asimetrija informisanost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Berzansko izvještavanj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na trzistu novca i kapitala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 akcijama i obveznica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 investicionim fondovi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pšta tržišna kretanja (indeksi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14200" y="1143000"/>
          <a:ext cx="7929720" cy="1584360"/>
        </p:xfrm>
        <a:graphic>
          <a:graphicData uri="http://schemas.openxmlformats.org/drawingml/2006/table">
            <a:tbl>
              <a:tblPr/>
              <a:tblGrid>
                <a:gridCol w="1096920"/>
                <a:gridCol w="855720"/>
                <a:gridCol w="905040"/>
                <a:gridCol w="666720"/>
                <a:gridCol w="880920"/>
                <a:gridCol w="881280"/>
                <a:gridCol w="1141200"/>
                <a:gridCol w="825480"/>
                <a:gridCol w="67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     37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vj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   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    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p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P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      2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3/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4"/>
          <p:cNvSpPr/>
          <p:nvPr/>
        </p:nvSpPr>
        <p:spPr>
          <a:xfrm>
            <a:off x="357120" y="300024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Popuniti izvještaj na osnovu sledećih podata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Akcija IN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Neto dobit iznosi 24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Dividende su raspodijeljene – racio plaćanje dividendi iznosi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Emitovano je 10.000 a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Akcija EPC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Poslovna dobit firme iznosi 45.000, a poreska stopa iznosi 20% (nema troškova finansir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Kompanija emituje 6000 a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Dividenda je raspodijeljena u razmjeri 1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214200" y="1714680"/>
          <a:ext cx="7929720" cy="1584000"/>
        </p:xfrm>
        <a:graphic>
          <a:graphicData uri="http://schemas.openxmlformats.org/drawingml/2006/table">
            <a:tbl>
              <a:tblPr/>
              <a:tblGrid>
                <a:gridCol w="1096920"/>
                <a:gridCol w="855720"/>
                <a:gridCol w="905040"/>
                <a:gridCol w="666720"/>
                <a:gridCol w="880920"/>
                <a:gridCol w="881280"/>
                <a:gridCol w="1141200"/>
                <a:gridCol w="825480"/>
                <a:gridCol w="67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     37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vj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,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,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   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    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p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P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,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      2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3/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HVALA NA PAŽNJ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6:06:55Z</dcterms:created>
  <dc:creator>Ana</dc:creator>
  <dc:description/>
  <dc:language>en-US</dc:language>
  <cp:lastModifiedBy>Ana</cp:lastModifiedBy>
  <dcterms:modified xsi:type="dcterms:W3CDTF">2010-03-23T11:26:33Z</dcterms:modified>
  <cp:revision>13</cp:revision>
  <dc:subject/>
  <dc:title>Finansijsko izvještavanje</dc:title>
</cp:coreProperties>
</file>