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AA8-D407-4CF2-8ACC-397CFB2B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0CA-5D9C-4F6C-85AD-79241B14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891-E579-4479-9A6D-FAF5E251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38A-0E02-4F1B-A5C7-D0E35C0A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BB8F-DA73-4577-98CE-CD497C3B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2C88-F254-4EFD-A615-856425AD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B76A-0D9F-4213-97BA-841922EC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95DF-5025-408F-95D3-6443CC4F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35D1-60E7-46A0-990C-D05C2A6A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64D4-7B4A-4AA8-B07A-2269DE20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401E-92A5-492D-802D-E14F1AA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011-6F69-40C2-9C72-C964820D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8F6F-7ABB-448B-8095-ED4B1CA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C243-85C4-4519-A916-8A8A3BBF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B273-81D7-4C67-A371-6CB3BD71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0849-22C2-46A4-88FD-50E3F7A6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B64C-AF49-46B8-AEA1-31B0702D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9531-3224-425A-BB9D-B06D3631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29E6-21AD-42E4-975F-7B42D326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59F4-3994-46D6-8491-1BBF67B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2548-6440-466E-8A70-B8D81183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DBA4-FA79-48AE-A651-3E4AD231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7EF-841E-4828-BF9F-5104D5B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7809-24E7-4DFD-84B0-38660E88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5015-1005-436E-AA06-624892EA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0A8C-7C49-4BDA-9335-7D8BAE98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9212-1A1A-4BD3-82D0-247B589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2D46-1E47-4165-AEEA-AE4684B6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AA3F-CC25-4E30-810A-026923FA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08E6-2E0D-414B-869C-C4428860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95251-F271-45EA-8527-02F0B287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A62F-C073-4CB3-ABE8-E279CB18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8939-3E1E-4DC5-A751-52674413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593-1AE6-44B8-B4E3-0EE53049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1C47-C04A-41C3-8E1B-A2AAF863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BA97-0F79-4E31-A4E8-FEB7E3BB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7272-B6DB-43D1-AE0E-5F2C55ED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E50C-5790-4527-AE6A-469A077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C0C3-F827-429E-B567-FE0A7FF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7DFFF-B3BF-435E-AAE6-A439EAD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789D-B303-4596-885B-DAE35DB4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725A-7A2B-4594-AE5F-F08BC01F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D24D-0CB5-4F26-B0E1-B8F91964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420A-2AB4-4095-A958-666EEC05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BEC-4599-49E4-9DE6-0A0B2B25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04EF0-7F30-4956-8055-696C3BF8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56C30-6870-4020-86BF-55BD0760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A3B09-5E24-4CF4-BDA9-DAEFB856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57CF8-96B7-4790-8F28-2C60DBD5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D6EB1-33A7-4511-9385-32DFA625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D7527-C435-4470-972E-1726D074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1F9A9-9179-49B8-920B-37FF333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E7BFE-623D-4273-9BF6-0E1EF076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EBBD2-D7A9-42AE-8ADF-BFEEC750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5A9F-EE02-49BF-BFEE-D14825AA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6F8-E76E-4704-8AC3-F1913EC0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8DC31-52E3-44F7-8AAE-A84E7004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0AD-9E43-4F04-AF25-D423CF0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0FA-411F-4BD9-993B-3C51970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179-9FCA-4239-BFD3-6474D21C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7B34-2806-46D1-97B5-5E75AEDF142C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FEC0-D616-4A44-9DDC-E7DA97100724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B2B3-2D19-4491-8185-8663C7981385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5C01-14AB-462D-AB41-C3C51A7A4FED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DA9-AB83-484A-94DF-8811E56AD11D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8400" y="530280"/>
            <a:ext cx="6960960" cy="2620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RZANSKI INDEKS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13840" y="1609200"/>
            <a:ext cx="792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zračunavanje DJ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JIA=zbir cijena akcije/djelila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a bi se otklonili problemi u promjeni djelioca, od 1992 se koristi sledeći obrazac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Tekući djelilac*(Ukupna prilagođena tržišna vrijednost/Ukupna neprilagođena tržišna vrijednost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ti novi djelilac, koristeći podatke iz prethodnog primjera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Rješenje: 5*(120/150)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led stalnih prilagođavanja, vrijednost djelioca Dow Jones prosjeka je neprestano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manjivana (danas je ispod 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itik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ekcije u djeliocu prikazuju rast indeksa, što ne predstavlja realnu sliku tržiš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30 akcij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ne može biti reprezentativn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stalnost procjene (diobe i zamjene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ikaz trend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nderisani su tržišnom vrijednošć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 = sadašnja tržišna vrijednost/tržišna vrijednost iz baznog perio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mpanije sa većim brojem akcija i većom cijenom akcija presudno utiču na kretanje indeksa. Stoga vrijednost indeksa zavisi od 2 faktora: cijene akcije i broja prodatih (ili kupljenih) akci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ma prilagođavanja djelio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, NASDAQ, Russel 2000 i s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 se sastoji od 4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d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deksa: industrijski, transportni, sektor usluga i finansijsk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ije presudna najveća tržišna vrijednost kompanije za uključivanje u indeks; bitna je reprezentativnost grane i vodeće kompanije iz tih gran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oredna analiza Dow Jones-a i 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imjer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ema podacima u tabeli, izračunati vrijednosno ponderisani indeks tržišta akcija. Dati interpretaciju. Napomena: Akcija A pocijepana je u odnosu 1 stara: 4 nove, akcija B je pocijepana u odnosu 1 stara : 2 nove, dok je kod akcije C izvršena isplata dividende novim akcijama u iznosu od 20%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71680" y="3929040"/>
          <a:ext cx="7358040" cy="1692360"/>
        </p:xfrm>
        <a:graphic>
          <a:graphicData uri="http://schemas.openxmlformats.org/drawingml/2006/table">
            <a:tbl>
              <a:tblPr/>
              <a:tblGrid>
                <a:gridCol w="1000080"/>
                <a:gridCol w="2428920"/>
                <a:gridCol w="1214280"/>
                <a:gridCol w="2714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14200" y="1428840"/>
            <a:ext cx="7858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Rješe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prije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500 + 5*1.000 + 80*2.0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173.000/210.000 = 0,8238 *100 = 82,3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nakon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2.000 + 5*2.000 + 80*2.4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234.000/210.000 = 1,114 *100 = 111,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85840" y="1857240"/>
          <a:ext cx="7858080" cy="1597320"/>
        </p:xfrm>
        <a:graphic>
          <a:graphicData uri="http://schemas.openxmlformats.org/drawingml/2006/table">
            <a:tbl>
              <a:tblPr/>
              <a:tblGrid>
                <a:gridCol w="1189080"/>
                <a:gridCol w="2098440"/>
                <a:gridCol w="1212840"/>
                <a:gridCol w="1354320"/>
                <a:gridCol w="200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 novo st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828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KAZATELJI CIJENA NA TRŽIŠTIMA HOV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NAČAJ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ETANJE OPŠTEG NIVO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IKATORI OPŠTEG STANJA U PRIVRED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STVARENE CJENOVNE PROMJENE – </a:t>
            </a:r>
            <a:r>
              <a:rPr b="0" lang="sr-Latn-CS" sz="2600" spc="-1" strike="noStrike">
                <a:solidFill>
                  <a:srgbClr val="ff0000"/>
                </a:solidFill>
                <a:latin typeface="Trebuchet MS"/>
              </a:rPr>
              <a:t>EX PO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EDNOSTI I NEDOSTACI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1609200"/>
            <a:ext cx="7472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Average - prvi pokazatelj cjenovnih promjena akcija (konstruisan prije više od 100 godin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d tada se razvijaju brojni oblici mjerenja cjenovnih promjena akcija koji se dijele u dvije grupe: prosjeci cijena akcija i indeksi cijena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osjeci cijena akcija – cijenom ponderisani prosjec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i cijena akcija – indeksi ponderisani tržišnom vrijednošću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82520" y="353880"/>
            <a:ext cx="75106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vanje prosjeka cijena akcij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Aritmetička sredin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Suma cijena akcija se dijeli sa brojem koji se definiše kao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onder je definisan visinom cijene konkretne hartije od vrijednosti – veće cijena hov, veći relativni uticaj na veličinu prosjek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blemi kod izračunavanja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Zamjena akcija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izabrati novu akciju sa sličnim per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fo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rmansama ili usaglasiti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mjena veličine liste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ponovni obračun kroz usaglašavanje djelioc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Dioba akcija – ako je izvršena dioba akcije od 200eura u razmjeri 5:1, koliko iznosi cijena akcije? Da li to utiče na prosjek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aglašavanje posle diobe se vrši na 3 način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amjena sa drugom akcijom (veoma je teško naći akciju sa sličnim karakteristikama, posebno ako se isključuje iz prosjeka akcija koja ima značajno mjesto u svojoj djelatnosti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šćenje multiplikatora – podjela 4:1 znači množenje nove cijene sa 4; jednostavan način usaglašavan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govanje djelioca – način koji se koristi kod Dow Jones prosjek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5103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42560" y="1213920"/>
            <a:ext cx="8072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imjer: data je tabela sa sledećim podaci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osjek iznosi 150/5=3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Izvršena je dioba akcije E u razmjeri 4:1. Izračunati vrijednost djelioca cjenovno ponderisanog indeks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571680" y="1857240"/>
          <a:ext cx="4071600" cy="2595600"/>
        </p:xfrm>
        <a:graphic>
          <a:graphicData uri="http://schemas.openxmlformats.org/drawingml/2006/table">
            <a:tbl>
              <a:tblPr/>
              <a:tblGrid>
                <a:gridCol w="2071440"/>
                <a:gridCol w="2000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8400" y="1285920"/>
            <a:ext cx="72673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Stanje cijena nakon diob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Novi prosjek bi iznosio 120/5 = 24. Međutim, kako nije došl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do promjena na tržištu, prosjek mora ostati nepromijenjen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a djelilac se mora usaglasit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djelilac = nova agregatna cijena/stari prosje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prosjek = nova agregatna cijena/novi djelila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857160" y="1857240"/>
          <a:ext cx="3357720" cy="258444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42560" y="12139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120/30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prosjek = 120/4 = 30        jednak je sa starim prosjekom; promjena nastala pri diobi akcija nije uticala na prosjek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1991 DJIA je koristio djelilac 0,559; DJTA (transportation) je koristio djelilac 0,709; DJUA (utilities) je koristio djelilac 1,997; DJCA (composite) je koristio djelilac 2,751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ight Arrow 3"/>
          <p:cNvSpPr/>
          <p:nvPr/>
        </p:nvSpPr>
        <p:spPr>
          <a:xfrm>
            <a:off x="3857760" y="1785960"/>
            <a:ext cx="4284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95120" y="-19080"/>
            <a:ext cx="7858440" cy="1238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85480" y="1285920"/>
            <a:ext cx="7786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prosjeci predstavljaju osnovni indikator berzanskih prom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Transportation Average (konstruisan 1884, sastojao se od 11 akcija željezničkih kompanija; 1897 prosjek se koriguje sa 11 na 20 akcija, koliko indeks ima i danas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Industrial Average (konstruisan 1897, sastojao se od 12 akcija, a danas se sastoji od 30 akcija; od originalne liste zadržao se samo General Electric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Utilities Average (konstruisan 1929, sastojao se od 18 akcija, a danas se sastoji od 15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17:16Z</dcterms:created>
  <dc:creator>Ana</dc:creator>
  <dc:description/>
  <dc:language>en-US</dc:language>
  <cp:lastModifiedBy>Ana</cp:lastModifiedBy>
  <dcterms:modified xsi:type="dcterms:W3CDTF">2011-03-04T10:29:48Z</dcterms:modified>
  <cp:revision>12</cp:revision>
  <dc:subject/>
  <dc:title>          ANALIZA  BERZANSKOG POSLOVANJA</dc:title>
</cp:coreProperties>
</file>