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5758A9-E5AC-4F83-8896-F042D222C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8AA52E-3C6E-449B-975D-96BABE51C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7F85D5-D95D-4278-A049-D6D6759D9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3879C5-3F85-4776-8BE1-D03CA0E1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A4A174-E2DB-4474-829C-E3F3C7594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5B49D0-90D2-4139-B674-A0F4856FF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B915E0-78F6-45D0-94DA-AA676E35D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784DBE-C5CD-4CAD-8CAF-B95685DB6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CA7592-CBF1-433E-B781-01D95BD8F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B6B001-C5BB-4051-B021-08F83B4EF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5C1A71-1EDE-4FEF-96C5-4879BAE06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E77C40-0727-421B-A55E-BB7CD9245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6629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9900"/>
                </a:solidFill>
                <a:latin typeface="Arial"/>
              </a:rPr>
              <a:t>Dobrodošli u </a:t>
            </a: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Wall Street</a:t>
            </a:r>
            <a:endParaRPr b="1" lang="en-US" sz="7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6" name="Picture 5" descr="Extension logo 12-01"/>
          <p:cNvPicPr/>
          <p:nvPr/>
        </p:nvPicPr>
        <p:blipFill>
          <a:blip r:embed="rId1"/>
          <a:stretch/>
        </p:blipFill>
        <p:spPr>
          <a:xfrm>
            <a:off x="1676520" y="5673600"/>
            <a:ext cx="17524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63244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Shvatanje tržišta kapital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što kompanije prodaju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i mogu biti izvori finansiranja kompan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dje kupiti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 pratiti stan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treba investirati u ak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Nadzor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91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6324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Šta je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Wall Street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Picture 5" descr="bs00558a"/>
          <p:cNvPicPr/>
          <p:nvPr/>
        </p:nvPicPr>
        <p:blipFill>
          <a:blip r:embed="rId1"/>
          <a:stretch/>
        </p:blipFill>
        <p:spPr>
          <a:xfrm>
            <a:off x="1295280" y="1447920"/>
            <a:ext cx="54864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Šta je akcij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6668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lasništvo u kompanij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cija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jene/kvo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bvezi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ezn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upo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žište novca i kapita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670536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Zašto kompanije emituju akcije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3276720"/>
            <a:ext cx="56386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panz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r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t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447560"/>
            <a:ext cx="60958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Finansijska tržišt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3123720"/>
            <a:ext cx="6629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er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Counter Marke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 O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nudar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2388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Rizik i prinos – obična akcij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28191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lding period yield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or retur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(HPY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 or HP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PY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vidends + Price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rchase Price 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3244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Berzanski izveštaj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Picture 4" descr="e_stocktable"/>
          <p:cNvPicPr/>
          <p:nvPr/>
        </p:nvPicPr>
        <p:blipFill>
          <a:blip r:embed="rId1"/>
          <a:stretch/>
        </p:blipFill>
        <p:spPr>
          <a:xfrm>
            <a:off x="541440" y="2819520"/>
            <a:ext cx="842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34290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jskih akc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jenovno ponderisan inde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Koji su njegovi nedostaci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371600" y="16765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Dow J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Industrial 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05:28Z</dcterms:created>
  <dc:creator>Ext CDFS</dc:creator>
  <dc:description/>
  <dc:language>en-US</dc:language>
  <cp:lastModifiedBy>User</cp:lastModifiedBy>
  <dcterms:modified xsi:type="dcterms:W3CDTF">2018-02-12T07:09:12Z</dcterms:modified>
  <cp:revision>25</cp:revision>
  <dc:subject/>
  <dc:title>Welcome to Wall Street</dc:title>
</cp:coreProperties>
</file>