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F70-D538-4BB9-AD93-8D9A6D0F3F0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CF7A-0D1B-4537-A7E5-63460623BF9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98D-B969-49AA-9713-BCC5D15C2938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4CE9-98AF-409E-9DA9-9107175D1D8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E410-ACB7-4DAF-9DA4-C083DC8CB63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A9FB-B56D-446F-8E71-15E6BC43434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835-FC75-4539-B587-98C3DF5A466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5DE-47E6-4FDB-8CC1-423F51F8CAD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1C4-D061-4E3A-B09A-E02DAA03243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B50F-C6EF-481F-9F05-5888F99F411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D3F7-5CBB-46F2-BE00-9AA9C7260AC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77F-902B-4A55-BE88-C76358788D7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9F7-53D1-47E1-8070-A58852B114D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B4F4-063D-4978-B3A2-A6B15A56364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482-C364-4232-9BC4-7B1074B9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F8A-BBFD-4426-A679-2F6E3EC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191-F973-477D-9E8E-6A1C573C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9B5-FB02-4922-8833-E579C8C6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F2A5-C4EA-4ADC-8223-F0A3ED0B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99D3-A3DA-4EA4-85AD-CABB40DB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BF7F-71D4-4267-A4F7-C10FB75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BFC7-FEEB-493D-8107-E2935029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90FE-CFF1-4846-A05F-6A466EC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E951-C5B0-4327-9606-A1B64377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3F2-B226-467F-B632-56BFC0B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B43-ADB3-401C-AECA-C738430F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26D6-D562-43DC-AF65-BC994E6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0AE4-3CC1-4C5A-9D7B-7B161FC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B7E-336C-4634-B82E-78A7EFA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617C-768A-42A8-9775-7B0C612C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B8C9-FB6C-42B0-91CC-392E5907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38657-30C2-43ED-B347-1E808C19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15620-C42F-4C30-A2C1-5E61A4F5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4DB0B-899C-4DDC-8FAD-55513E26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E7404-8436-45D2-8589-81E5C8D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15BFA-785D-45E0-8EA8-35758C66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78D-A2A2-4A22-90D4-17D0799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93556-9F3B-4531-B098-27CADEE8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6B11E-ECBE-46AC-9930-243DE2B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0BC74-F418-4116-8186-A91D1E14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8D9DD-AFE6-462A-B993-C574B91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BFCC3-6739-4E7D-B66F-1042621B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26D58-D2E0-4A9A-BD65-86C8A2A4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6A8B4-9191-4C70-A122-245B288B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0BB2F-88B2-4C36-A676-9D97F9E1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A8FA-39A5-443B-90AA-DDE98100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8B24-75DD-4751-8E91-3BABA71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4AE-DF90-48C4-949E-81A045D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D769-C2EF-4C4B-9468-F90AABB3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1551-BB95-463C-979D-11402F00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4AE1-C836-416D-B3DA-5854568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A4CF-AE9A-4C71-AA0F-98FBABC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317E-0424-45AF-95D3-46B8733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1116-4270-4187-A314-5DE4180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1642-E10C-4A2F-A6F9-1D7BCA79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E7D9-7021-4595-93D6-05E96EAE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ACC2-43F9-47AA-B565-4402234A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2B6B6-2638-4C35-B396-1569CC3B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CDE-841E-4398-A01D-54318448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36E06-1598-4F06-A59E-0C5928F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A9FC9-7913-4EC0-BFBE-591AC07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F014F-1E07-477C-8DEE-D18C7EF9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667B0-1808-4CF7-A6E6-698B66AE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CB5EB-490F-4DD0-840D-E8D411C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86A36-EDB6-4648-B7BE-D23A04F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21D40-6458-43A5-9626-AC0D6FF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EDD13-2793-48CE-8CCE-2FA4F1A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38641-9070-4B00-B9A9-11246B6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986B0-3B2D-4240-8418-0CB89170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E70-A8C2-47F5-BF5A-54755F8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49280-56D8-4F4D-809C-6477699C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D2555-7C1D-44C6-AF90-90D5BDFA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9580C-1BC8-4166-92A2-DE6AC38A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BA140-9284-44DF-971A-16456F15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6B748-C137-4F02-8B3F-BA28F69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C10AC-34F2-4FD8-9574-C0FBC7E1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FAAD7-BE88-4FF9-A920-786CDBF3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2FC31-B3DA-4C39-BEFE-70B9658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D0BA9-F7DF-487E-9063-01DF529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A7C37-EAAC-43E6-8E69-C46828C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68A-9EFC-42E5-BE32-DEBD94E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8C51D-4DA9-43CE-9CCA-1B8C339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F6ED6-EA1C-4707-9EF9-2C7A1009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4DEAF-C021-4ACE-A0BF-2D259948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7065D-2D42-4EDD-9B94-2C366EC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4F026-CC88-4A7A-BD9F-6E25B038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54C48-E9A4-4DDD-AB95-DD7346E2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BDC87-6D11-4248-903B-08D67E4B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9C981-5852-427C-97B3-B500943B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91CE7-F3B8-44AD-8C0A-5EFD5C2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25595-CFF9-49BF-A64D-ADD94FE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0B0-C692-45AA-BE21-EA9C1E3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8BF26-1745-46B4-9F88-E3F3CD66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7F041-7AD0-4FCF-B1D6-F18EE201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FC369-927F-42C1-B0DF-45DE881E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E0A52-B085-432D-B2DF-571CA435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BA70D-D0FB-4DEA-8A9B-302F283E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D2B-5C98-42B4-BADC-38CAE08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9B4C-D25C-44C3-825D-5377881E42C2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73E-6893-4105-A56E-51BB9C9933E3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CE7F-F48F-4136-A7AC-91778D8FAAF7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356-A899-44DD-AEDE-37B89E301E25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664-B748-42E8-933E-625D750FBC92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3558-16AD-4E1A-96FA-85F2A370AEE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5059-015D-451E-A93D-9AD01959AB1E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99972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os ekvivalentan obveznici – Bond Equivalent Yield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be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ili ASK Yield iz listin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ASK Yield se v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zbog nedostatka prethodne metode i prikazuje realniji prinos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 pravilu je v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od prinosa dobijenog metodom bankarskog disko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kont se stavlja u odnos sa prodajnom cijenom i svodi se na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nivo uklju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vanjem svih 365 d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ektivni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prinos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koristi slozeni kamatni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i predstavlja najrealniji 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, koji nije u upotrebi kod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a prinosa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501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1143000"/>
            <a:ext cx="8572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žište obveznica – tržište kapitala sa fiksnim prihod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  (T-notes i T-bonds), dug državnih agencija, municipalne obveznice, hipotekarne hov i s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zdaju se sa denominacijom od 1.000 dolara i više; polugodišnja isplata kupo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Century Schoolbook"/>
              </a:rPr>
              <a:t>Treasury bo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14240" y="5000760"/>
          <a:ext cx="7429680" cy="1160280"/>
        </p:xfrm>
        <a:graphic>
          <a:graphicData uri="http://schemas.openxmlformats.org/drawingml/2006/table">
            <a:tbl>
              <a:tblPr/>
              <a:tblGrid>
                <a:gridCol w="1238400"/>
                <a:gridCol w="1905120"/>
                <a:gridCol w="928440"/>
                <a:gridCol w="1214640"/>
                <a:gridCol w="904680"/>
                <a:gridCol w="123840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 Mo/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b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14300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veznica dospijeva  za naplatu 2014. godine. Kuponski prihod iznosi 4% nominalne vrijedno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rojevi na desnoj strani koji određuju kupovnu i prodajnu cijenu predstavljaju jedinice od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/32. Tj.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upov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6/32 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li 94,5 prodaj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7/32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ili 94,53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ve cijene predstavljaju procenat nominalne vrijednosti – cijene su zapravo 945 $ i 945,31 $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omjena od +3 znači da je cijena tog dana porasla za 3/32 (procenat od nominalne vrijed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inos do dospijeća je mjera godišnje stope prinosa za investitora koji je kupio obveznicu i drži je do dana dospijeć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14200" y="1071720"/>
            <a:ext cx="8715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ug državnih agencija (Fannie Mae, Freddie Mac, Ginnie Mae) – nizak riz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obvezn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orporativne obveznice (opozive i konvertibil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entury Schoolbook"/>
              </a:rPr>
              <a:t>Municipalne obveznice – izdaje ih opština i oslobođene su lokalnih poreza na prihod od kama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vije vrste: general obligation bonds (obveznice opšte obaveze) i revenue bonds (dohodovne obveznice – osigurane prihodima projekta; rizičnije u odnosu na obveznice opšte obavez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ospijeće do 30 godin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 – prinos na oporezive obveznice nakon plaćanja porez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rši se komparacija sa prinosom municipalnih obveznica i traži ekvivalentan oporezivi prino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inosu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obveznice izuzete od porez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=Rm ili R=Rm/(1-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720"/>
            <a:ext cx="79725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koliko je ekvivalentni oporezivi prinos veći od stvarnog prinosa na obveznice, onda će investitor rađe drž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= 1- (Rm/R) – što je veći odnos između Rm i R, investitor će preferir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8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52280"/>
            <a:ext cx="8258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terijalna vs. Finansijska ak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Finansijska aktiva – nematerijalizova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lasifikacija finansijske aktive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OV sa fiksnim prihodom (obveznica donosi kamatnu stopu koja je fiksirana tako da bude za 2% v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od stope koja se pla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na kratkoro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vne obveznice – T bills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mjenljiva kamatna stopa – isplata zavisi od teku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e kamatne stop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Vezuju se za razl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ita dospij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i prinose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novca se odnosi na kratk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koje su visokolikvidne i nose niza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kapitala se ve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e za dug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– Treasury bonds, visok prinos i viso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Junk obveznic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(ispod BBB rejtinga)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60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.   Akcije – vrijednost akcijskog kapitala se vezuje za uspjeh firme i njenu materijalnu aktiv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.   Finansijski derivati – opcije i termniski ugovor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ll opcija – pravo da se akcije kupe po ut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oj cijeni iz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ja (strike cijena) na dan isteka opcije ili prije tog datum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rijednost derivata se izvodi iz vrijednosti drugih instrumenata. Vrijednost pomenute call opcije zavisi od cijene akcije na koju se odnos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ju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s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Osiguranje od rizika ili prenos rizika na druge ucesnik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folio – skup investicija jednog investito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vije vrste odluka : o alokaciji aktive (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oke klase) i o odabiru hartija od vrijednosti (hov unutar svake klas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p –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gradnja portfolija p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je alokacijom aktive (berza akcija ili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 nov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ottom – u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ategija podrazumijeva analizu HOV u koje se u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 u okviru pojedinih klasa (analiza cijene, prinosa, kamatnih stopa i sl.). Ova strategija usmjerava portfolio na aktivu koja je najpriv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ja za ulag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1214280"/>
            <a:ext cx="8472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atkor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ne obvezni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-bills ili Treasury b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oko likvidno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prodaje zapise, a investitori ih kupuju uz diskont ili popust u odnosu na navedeni iznos njihov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. Prilikom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isp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je iznos jednak nominalnoj vrijednosti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zlika izmedju kupovne cijene i kon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jeste zarad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daju se jednom nedeljno (dospijece 28, 91 ili 182 da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upuju se direktno ili putem posredni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aju se u minimalnim apoenima od 1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000 dola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501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428760" y="1285920"/>
          <a:ext cx="7929360" cy="1477800"/>
        </p:xfrm>
        <a:graphic>
          <a:graphicData uri="http://schemas.openxmlformats.org/drawingml/2006/table">
            <a:tbl>
              <a:tblPr/>
              <a:tblGrid>
                <a:gridCol w="1322280"/>
                <a:gridCol w="1606680"/>
                <a:gridCol w="1036440"/>
                <a:gridCol w="1320840"/>
                <a:gridCol w="1322280"/>
                <a:gridCol w="1320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ys to 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2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9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v 04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357120" y="9288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ury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357120" y="29289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mjesto cijene zapisa, listing prikazuje prinose zasnovane na tim cijen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ajna cijena jeste cijena po kojoj diler prodaje, a investitor kup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upovna cijena jeste cijena po kojoj diler kupuje, a investitor pro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aspon izmedju kupovne i prodajne cijene je zarada di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jena 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metode bankarskog diskonta (Rbd – Discount Banking return)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 ob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u prinosa na prodajnu ili kupovnu cijenu zapisa. Diskont na nominalnu vrijednost se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a na godi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jem nivou na bazi od 360 dana i potom prikazuje kao procenat nominalne vrijed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edostaci metode bankarskog disko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oristi prost kamatni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 i 360 dana umje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365 d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avlja u odnos diskont (zaradu) sa nominalnom vrijedno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ć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, umjesto sa kupovnom cijenom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3-14T12:56:38Z</dcterms:modified>
  <cp:revision>32</cp:revision>
  <dc:subject/>
  <dc:title>Slide 1</dc:title>
</cp:coreProperties>
</file>