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21E9-E1C7-4E9D-A60E-DC6130F77469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4F63-3DDE-4DA6-AFE6-B888B17C626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1578-25BD-45E5-8F15-AF5C93A84579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F1E3-5981-4D35-8967-2B9789E87BDC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F286-4AF8-43DB-96AF-7AE239CF5D95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D277-FC3A-47B6-B987-23659826255C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C800-6DDA-4937-8539-1F5046FE92B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891D-8F99-472C-8AFF-30A822B5D459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F76-9312-4B61-8AB8-424B1726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3D3-52FC-435E-AE05-69808D5F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087-C9C3-41D9-AFAB-FC93EB1B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EE5-42D5-4F30-8029-76EE8E8E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655F-7062-46AC-BB22-75421D0E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487F-B32D-4052-A68E-9D06B3DA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82B0-3FBD-441E-AE93-12962D99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BB3B-A928-4260-9F6A-5B9B66D7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1C62-8444-4794-8CD3-B18AF4F7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98EE-008E-43AA-988D-209A634F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0390-97BA-4414-B0CE-93AB77E6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8DB-978E-46C1-89A3-E38EFA5D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9AE6-A21D-4E5B-97B6-8AC1EA74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4096-AE01-4211-AC12-3978AEF8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4060-D43F-4AFC-8114-0672B275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DAF2-E567-4A93-A45B-B1BB8377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C60E-E669-4ECC-8189-0D733F46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02386-9F99-470F-9CFB-9F48A696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326A6-C8E4-4A2F-895D-ADFC2F23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6A126-A82E-49EC-B946-4071A2F5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59DFC-1942-4E03-B5FB-C99237D0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CCA92-A280-4DC6-91C4-0EBF9C18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2FE-F60E-4B29-98CC-66A311BF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C15A2-9482-4811-9F50-87EF53A5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6DE6E-7ABB-4302-8CBD-12AD4AA5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E0011-C5DB-4E9C-90BA-E1E83EA3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62C82-CBED-443F-BBE8-A386633F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F88A0-067C-4DE5-A138-555FB4CE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16014-E4C6-4B43-AAC9-F31FF88A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4D469-7F71-4241-A087-1ED39826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23900-B919-4DD5-AE85-592E3521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DFE7-78B7-4E34-8671-A7D006B2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70786-B7FB-4C21-8DC5-3AAA73D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58F-E0A4-4938-8253-E7883F67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CA749-4317-46FC-B980-6812C1C8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C602F-D22C-49C5-8F79-72F3B9C3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70ED-8EE6-4D25-B996-8C5E38C7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06D36-1238-4516-8D70-445447B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9EB7-F3E8-4222-B3DA-8BFD46BD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6CEC2-57C4-48C1-A250-815DEC36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68B77-B64D-41FC-99BB-2AB7860F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51EEA-DDA9-4ED2-BFE9-7EC695A0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F047-30E0-476E-A69C-5509C786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BED74-1E28-4C57-9FC3-28FEB85B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BF9-1733-439E-8ACE-2AD4889B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C5BE8-78E0-4E36-A0EC-5B3C643C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746FC-3A0A-4449-8B13-F80DE693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B6DFE-6219-4EBE-98B7-5BBD2A8C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600F0-B2A4-4EAF-9A9A-952FFFF9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7F0D8-5B2A-4FC3-B502-0B395821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7317A-D5ED-4312-A363-460CEC0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6796E-FB41-4565-BEAE-D13C799D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8B7B0-8689-45A1-B2EA-723845A5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BF579-F3B9-4500-8F0D-6413C6FC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46E9D-C604-48E5-AA94-A2A639C3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291-37B1-43AB-9905-338B3809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C4008-0363-47A5-9364-78B4B7DE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C7FCB-AB01-485D-9FD5-752611DD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2729D-BD9C-47F0-B168-E2B3390C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630C2-A088-4FB9-84CF-2AD6CE6A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CE0BE-85C8-4310-8B27-D32EFD6C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C4F37-1739-41C4-99B4-716D1DB1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F85AF-30A1-409A-B9C5-1FAD169C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611A8-EB3C-497E-8DF9-B72E8836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52465-53E0-4664-8D9B-54793878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7BD8C-E6D7-494E-B223-6FFBDE48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A9E-D5E6-41FD-B32B-ED664563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23E95-F126-464F-9CAC-287E49E0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BAC92-861D-4806-8A4F-3D8DBC36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CB5E5-6A5E-4B73-B0C8-33D45264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86ECA-21CD-45FB-AEEF-76CC45A0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A8E31-0AAA-450E-BC96-9A70DB46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78B60-4937-4ABE-81EB-FCDBEC03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AE31D-C4ED-4F2C-AAE9-9429D989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B83C0-7F4E-4761-A770-5D9AD219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648F1-83DB-4038-AFAF-43B3EB3F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E1079-BC5E-495B-A6D7-4E6F190F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189-5914-4FEE-9C9B-0940B655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CA8B4-950F-49C2-A6A7-4560D935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82B47-E697-4F2B-86FE-0A53B0BB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D4D79-9FE8-4DAA-989E-C2AF0CA8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907D3B-A2AE-4471-9E89-7A340DB7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013D0C-9C6B-47F7-AB5A-96F9315E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760-5012-403D-A5E6-1646C8C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3B1F-9F07-447D-B0FE-FBA1448438C0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CF8C-CC0D-44A1-86DD-BB3E7916C3AB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F859-E8FC-4D17-A6E5-DA2B2EE62538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DF3C-4DB3-447A-93C3-B540B4D0BDDE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BCB6-C104-45ED-ABE1-FEF6B46CFF3B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8F58-BA92-4E1B-A893-E84BA3676610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0763-F35A-43EF-A885-BBB2886CA320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nance.yahoo.com/q" TargetMode="External"/><Relationship Id="rId2" Type="http://schemas.openxmlformats.org/officeDocument/2006/relationships/hyperlink" Target="http://www.finance.yahoo.com/q" TargetMode="External"/><Relationship Id="rId3" Type="http://schemas.openxmlformats.org/officeDocument/2006/relationships/hyperlink" Target="http://www.stockcharts.com/" TargetMode="External"/><Relationship Id="rId4" Type="http://schemas.openxmlformats.org/officeDocument/2006/relationships/hyperlink" Target="http://www.nasdaq.com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5723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imarno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tržište (nisu dovoljno poznata široj javnosti; pokrovitelj prve emisije investiciona banka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Sekundarno tržište – 2 važne funkcij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. čini finansijske instrumente likvidni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2. formiranje cijene na tržištu (kupovina na primarnom tržištu zavisi od cijene na sekundarnom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Sekundarna tržišta su organizovana na 2 način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. Berze (Njujorška, Čikaška robna berza – pšenica, kukuruz, srebro..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2. Vanberzansko tržište – aktivno poslovanje dilera sa različitih lokacija; trgovina “preko šaltera”; trgovina putem kompjuter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Tržište obveznica američke vlade koje ima veći obim trgovine od Njujorške berza, organizovano je kao vanberzansko tržište. (na OTC se trguje i prenosivim depozitnim certifikatima, bankarskim akceptima, devizama, derivatima i sl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Nasdaq – National Association of Securities Dealers Automated Quota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572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C:\Users\Ana\Pictures\200px-NASDAQ.jpg"/>
          <p:cNvPicPr/>
          <p:nvPr/>
        </p:nvPicPr>
        <p:blipFill>
          <a:blip r:embed="rId1"/>
          <a:stretch/>
        </p:blipFill>
        <p:spPr>
          <a:xfrm>
            <a:off x="214200" y="1143000"/>
            <a:ext cx="3691080" cy="5357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3929040" y="1143000"/>
            <a:ext cx="4786200" cy="54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Elektronsko tržite ak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Osnovan 1971 od strane NA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Posjeduje Nordic SE i 1/3 Dubai SE, od 2007 i Philadelphia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Druga po veličini u Amer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87 usled krize uvodi se SOES – Small Order Execu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98 Nasdaq-Amex Marke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3 nivoa kotira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1 pokazuje spread između  najviše kupovne i najniže prodajne cijene (inside quo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2 pokazuje sve javne kotacije, informacije o kupovnoj i prodajnoj cijeni market maker-a, izvršene nal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3 koriste market maker-i da bi unosili cijene i izršavali nal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Nasdaq composite (od 2009 preko 3000 komapnija); Nasdaq 100 (nefinansijske institucije; svjetske kompanije; razlika u odnosu na 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&amp;P500 i DJIA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1214280"/>
            <a:ext cx="82580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žište novca  (veći obim trgovine, likvidnost, sigurnija investicija, manja fluktuacija cijena kratkoročnih HOV u odnosu na dugoročne HOV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žište kapital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Internacionalizacija finansijskih tržišt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adicionalni instrumenti na međunarodnom tržištu obveznica su strane obveznice – prodaju se u stranoj državi i denominovane su u valuti te držav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Veliki dio željezničkih pruga u SAD izgrađenih u XIX vijeku finansiran je prodajom stranih obveznica u Engleskoj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-obveznica – denominovana u valuti koja nije valuta države u kojoj je prodata. Tržište EO raste velikom brzinom. (obveznica denominovana u dolarima, a prodata u Londonu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 – valute (americki dolari deponovani u stranim bankama van SAD ili u svojim bankama u inostranstvu. Američke banke pozajmljuju euro-dolarske depozite i oni čine značajan izvor finansiranja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143000"/>
            <a:ext cx="8043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</a:t>
            </a: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finance.yahoo.com/q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stockcharts.co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nasdaq.co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ansakcioni troškovi posredovanja (posrednici mogu smanjiti te troškove i obezbijediti likvidne usluge – olakšati transakcij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Finansijski posrednici smanjuju rizik investitora (diversifikacija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Asimetričnost informacijam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Negativna selekcija – može nastati prije transakcije (zbog visokorizičnih klijenata svi se isključuju sa tržišt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Moralni hazard – može nastati nakon transakcij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Finansijski posrednici umanjuju rizik i mogu otkloniti negativnu selekciju ili moralni hazard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00040" y="1285920"/>
            <a:ext cx="8215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Regulativa mora smanjiti probleme negativne selekcije i moralnog hazarda zbog optimalnog funkcionisanja na tržiš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Nakon sloma i širenja kriminala 1929 godine, 1933 se donosi Zakon o HOV i osniva Komisija za HOV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Zahtijeva se transparentnost, zabranjuje se trgovina na bazi insajd informacija – cilj zaštita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simetrične informacije mogu izazvati “finansijsku paniku” – povlačenje sredstava kako iz sigurnih, tako i iz nesigurnih institucija (posrednici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omisija za HOV nadgleda rad finansijskih institu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0004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Zašto obična akcija IBM predstavlja aktivu za vlasnika, a pasivu kompaniji IBM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Možete kupiti automobil danas za 5000$ i on će vam donijeti dodatnih 10000$ prihoda, jer ćete pomoću njega raditi kao trgovački putnik. Da li treba da uzmete kredit zbog kupovine automobila od Mark-a (Loan Shark), uz 90% k.s., ukoliko vam niko drugi ne odobrava kredit? Da li je moguće legalizovati davanje kredita uz visoke kamatne stope? Kako takva pojava utiče na finansijska tržišt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Šta biste radije držali – obveznice ili akcije kompanije za koju se sumnja da će bankrotirati za godinu dan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Navedite slučaj negative selekcije u kojem ste se Vi bili učesnik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Kako podjela rizika doprinosi i finansijskim posrednicima i privatnim investitorim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a li je moguće potpuno ukloniti asimetriju u informisanju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4:18:04Z</dcterms:created>
  <dc:creator>Ana</dc:creator>
  <dc:description/>
  <dc:language>en-US</dc:language>
  <cp:lastModifiedBy>User</cp:lastModifiedBy>
  <dcterms:modified xsi:type="dcterms:W3CDTF">2017-02-19T13:33:04Z</dcterms:modified>
  <cp:revision>12</cp:revision>
  <dc:subject/>
  <dc:title>Slide 1</dc:title>
</cp:coreProperties>
</file>